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8A8-A892-40A3-AF7B-C0203140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02C-2E49-4096-AA58-BA1332DD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379-57A8-45CF-BF63-8772264A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9B1-9CCE-4341-BC96-EEAAECCE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96E-805F-492B-8685-07E946A6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A87-CE93-43E6-9BD6-B33BAEDD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932-DC0D-4F21-9D74-59F6ED58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044-FA7F-4F07-BF1A-A273C433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3A5-588A-41ED-88F4-F55D6208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BE1-73F2-4B0D-BB3D-3C1A901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817-3F89-403B-B515-D5F6E327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1B2-C52E-47B8-8CF2-F77819B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F40-D4C6-46AB-8639-DBF5FF814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59220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stavitev izvajanja LNV izvajanja OP EKP v obdobju 2014-2020 za leti 2017 in 2018 in predstavitev in potrditev LNV izvajanja OP EKP za leto 2019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avokotnik 1"/>
          <p:cNvSpPr/>
          <p:nvPr/>
        </p:nvSpPr>
        <p:spPr>
          <a:xfrm>
            <a:off x="601560" y="196920"/>
            <a:ext cx="7229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7 predstavljata naslednji vrednotenj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rispevka krepitve zmogljivosti NVO na izvajanje zagovorništva in javnih storitev -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izvede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mesno vrednotenje učinkovitosti in uspešnosti izvajanja ukrepov s področja visokega šolstva –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egleda prejetih ponudb izvajalcev vrednoten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avokotnik 1"/>
          <p:cNvSpPr/>
          <p:nvPr/>
        </p:nvSpPr>
        <p:spPr>
          <a:xfrm>
            <a:off x="620640" y="674640"/>
            <a:ext cx="78343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8 predstavljajo naslednja vrednotenj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obude za zaposlovanje mladih (Program »Prvi izziv 2015«) - znižanje brezposelnosti mladih, ki niso zaposleni in se ne izobražujejo ali usposabljajo v starosti od 15 do 29 let v kohezijski regiji Vzhodna Slovenija, 2. faza – </a:t>
            </a:r>
            <a:r>
              <a:rPr b="0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izvajan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rednotenje uspešnosti izvajanja vseživljenjske karierne orientacije vključno s sistemom napovedovanja potreb na trgu dela – </a:t>
            </a:r>
            <a:r>
              <a:rPr b="0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iprave tehnične specifikacije za izvedbo vrednotenj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3. Vrednotenje uspešnosti programa PUM(O) – </a:t>
            </a:r>
            <a:r>
              <a:rPr b="0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predvidena je izbira izvajalca do oktobra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 Vrednotenje izvajanja v okviru PN 4.1. Spodbujanje energetske učinkovitosti, pametnega ravnanja z energijo in uporabe obnovljivih virov v javni infrastrukturi, vključno z javnimi stavbami, in v stanovanjskem sektorju, Specifični cilj 1: Povečanje učinkovitosti rabe energije v javnem sektorju -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predvidena je izbira izvajalca do oktobra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5. Vrednotenje upoštevanja načela trajnostnega razvoja pri izvajanju OP EKP 2014-2020 –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iprave dokumentacije za izvedbo J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 Vrednotenje prispevkov OP EKP 2014-2020 k nacionalnim ciljem Strategije Unije za pametno, trajnostno in vključujočo rast, komplementarnost med strukturnimi in drugimi evropskimi skladi -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iprave dokumentacije za izvedbo J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ravokotnik 1"/>
          <p:cNvSpPr/>
          <p:nvPr/>
        </p:nvSpPr>
        <p:spPr>
          <a:xfrm>
            <a:off x="479520" y="316080"/>
            <a:ext cx="804384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Predlog Letnega načrta vrednotenja izvajanja OP EKP v obdobju 2014-2020 za leto 2019 predstavljajo naslednja vrednotenj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rispevka krepitve zmogljivosti NVO na izvajanje zagovorništva in javnih storitev (PO 11, PN 1, SC 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rednotenje izvajanja v okviru PN 3.1. Dinamično in konkurenčno podjetništvo za zeleno gospodarsko rast (PO 3, PN 1, SC 1, 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3. Vrednotenje učinkovitosti in uspešnosti izvajanja specifičnega cilja Povečan delež inovacijsko aktivnih podjetij (PO 1, PN 2, SC 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 Vrednotenje uspešnosti izvajanja aktivacijskih politik z vidika izboljšanja dostopa do trga dela za določene ciljne skupine (dolgotrajno brezposelni, nizko izobraženi, starejši) in ustreznosti ukrepov za znižanje brezposelnosti mladih (PO 8, PN 1, SC 1 in PN 2, SC 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5. Vrednotenje uspešnosti ukrepov za trajnostno vključevanje mladih na trg dela (PO 8, PN 2, SC 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 Vrednotenje uspešnosti izvajanja ukrepov s področja  svetovalne dejavnosti v izobraževanju odraslih in karierne ter poklicne orientacije za študente in drugo šolajočo mladino in vrednotenje uspešnosti izvajanja ukrepov s področja neformalnih izobraževalnih programov za odrasle in javnoveljavnih izobraževalnih programov za odrasle, po katerih se ne pridobi javnoveljavna izobrazba (PO 10, PN 1, SC 1,2,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7. Vrednotenje učinkovitosti in uspešnosti izvajanja ukrepov s področja visokega šolstva (PO 10, PN 1, SC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vala za pozornost!</a:t>
            </a:r>
            <a:br>
              <a:rPr sz="2800"/>
            </a:br>
            <a:r>
              <a:rPr b="1" lang="sl-SI" sz="1400" spc="-1" strike="noStrike">
                <a:solidFill>
                  <a:srgbClr val="000000"/>
                </a:solidFill>
                <a:latin typeface="Calibri"/>
              </a:rPr>
              <a:t>http://www.eu-skladi.si/portal/sl/ekp/studije-in-vrednotenja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irjam Tolar</cp:lastModifiedBy>
  <cp:lastPrinted>2017-05-22T10:39:40Z</cp:lastPrinted>
  <dcterms:modified xsi:type="dcterms:W3CDTF">2018-05-22T09:42:19Z</dcterms:modified>
  <cp:revision>101</cp:revision>
  <dc:subject/>
  <dc:title>PowerPoint Presentation</dc:title>
</cp:coreProperties>
</file>